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CF9-EDD1-4B64-81D6-34923FE1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103F-90A3-47F5-B3E1-A6E86C7C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5350-3297-4288-99E1-2BA1BBCD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53E9-9F8F-47A3-BA2A-13C6F6A5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5EBE-1D51-4284-8AA7-2A6215B1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C430-3B3F-47D2-877D-402EE012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E0F2-FD39-464A-9005-21DB6752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3CAC-061E-4AB1-9A8D-42507834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0380-9906-4AD8-A5A0-CEDA912D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D3BE-6905-4085-959F-1B4F339E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B9F8-DA82-4392-BA4C-147556A8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A00-5E7E-4CD2-8ECC-A8494F79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8BD3-CECC-4945-8E06-C9E1EE90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5A97-42B2-488E-B023-FCC56C55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4340-4996-4A84-91D4-EFFF6D6F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A4F7-4E80-4BD5-8651-180E178F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2907-9041-4646-892C-7FCDBB35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4CE-A3F3-4FEF-946B-98D7A0FF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E56-37BE-4B04-BE91-19D98A34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245-7A4E-440B-873A-43E81D53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EDDC-A936-408C-8BEF-DF9EA295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480-9834-432D-8F4B-F22C4E94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5355-B9D1-48F8-B6B3-5DB2B15E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5FA-0FB4-4960-A07A-E14554D8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3253-7F8A-46DE-85B7-78959E8F35C1}" type="slidenum">
              <a:rPr b="0" lang="en-US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0BDD-F9D4-46AD-A408-F4C9AE4DF61A}" type="slidenum">
              <a:rPr b="0" lang="en-US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67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hreya Raw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mail: srawal@ucalgary.c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3"/>
          <a:srcRect l="0" t="-57" r="0" b="-57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38088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30492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me basic rules about desig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rts of a well designed spreadshee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ign the spreadsheet on paper firs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st and edit your calculat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eep the components of a calculation visibl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 aware of the "space" or "geography" of the spreadshee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1) Introduction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is spreadsheet or workbook about. Note the title, purpose, author, creation and revision dates etc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odel and Assumption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stify any models, summary statistics, or calculated variables you are using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3)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Data Dictionar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 every variable in the spreadsheet note i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Locatio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(cell rang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Nam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ata Clas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it is (Raw Data, Statistical Summary, Calculated Variable, Score etc.)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ata Typ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(e.g. Integer, Text, Currency, Date, etc.)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escriptio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(a description of the data or what it's '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urpos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' is)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4) Raw Dat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sent your raw data in tabular form, with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olumns representing variabl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ows representing cas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5) Calculated Data: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mmary Statistics: Usually Summary statistics result from calculations across rows for a single colum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rived variables are often based on calculations across columns for a row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6) Present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Reporting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hasize the final information you wish to show without excessive background detail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charts wherever appropriate to summarize large volumes of data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reya Rawal</cp:lastModifiedBy>
  <dcterms:modified xsi:type="dcterms:W3CDTF">2009-01-28T17:23:5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